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8F03-1B11-46CF-9F7D-92922E907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2080" y="679320"/>
            <a:ext cx="4533840" cy="3400560"/>
          </a:xfrm>
          <a:prstGeom prst="rect">
            <a:avLst/>
          </a:prstGeom>
          <a:ln w="0">
            <a:noFill/>
          </a:ln>
        </p:spPr>
      </p:sp>
      <p:sp>
        <p:nvSpPr>
          <p:cNvPr id="9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ISITACIÓN EN LOS HOGARES (RP-8)</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sted es una diaconisa, anciana, u ocupa cualquier otra posición de responsabilidad en la iglesia, se encontrará en algún momento visitando en los hogares.  Puede ser que sea a una persona que acaba de regresar a casa proveniente del hospital, alguien que no puede salir o cualquier otra situación.  Esta sección se concentrará en cómo visitar en los hogar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r>
              <a:rPr b="0" lang="es-ES" sz="1000" spc="-1" strike="noStrike">
                <a:solidFill>
                  <a:srgbClr val="000000"/>
                </a:solidFill>
                <a:latin typeface="Arial"/>
              </a:rPr>
              <a:t>	</a:t>
            </a:r>
            <a:r>
              <a:rPr b="1" lang="es-ES" sz="1000" spc="-1" strike="noStrike">
                <a:solidFill>
                  <a:srgbClr val="000000"/>
                </a:solidFill>
                <a:latin typeface="Arial"/>
              </a:rPr>
              <a:t>Cómo entrar</a:t>
            </a:r>
            <a:r>
              <a:rPr b="1" lang="es-ES" sz="1000" spc="-1" strike="noStrike">
                <a:solidFill>
                  <a:srgbClr val="000000"/>
                </a:solidFill>
                <a:latin typeface="Arial"/>
              </a:rPr>
              <a:t>	</a:t>
            </a:r>
            <a:r>
              <a:rPr b="1" lang="es-E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nte debiera estar seguro de que cuenta con la presencia de Dios en el hogar. A menos que la situación sea grave y seria, el visitador debiera entrar al hogar con un espíritu feliz. Luego de un intercambio inicial de saludos, en el cual el visitante tratará de evaluar la situación, debiera hacerse todo lo posible para que la persona se sienta tranquila y relajada en el hogar. Cualquier frase halagadora honesta estará bien (algo como: “Me gustan sus hermosas azaleas”) pero esta pequeña charla no debiera extenderse por más que unos breves minuto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r>
              <a:rPr b="0" lang="es-ES" sz="1000" spc="-1" strike="noStrike">
                <a:solidFill>
                  <a:srgbClr val="000000"/>
                </a:solidFill>
                <a:latin typeface="Arial"/>
              </a:rPr>
              <a:t>	</a:t>
            </a:r>
            <a:r>
              <a:rPr b="1" lang="es-ES" sz="1000" spc="-1" strike="noStrike">
                <a:solidFill>
                  <a:srgbClr val="000000"/>
                </a:solidFill>
                <a:latin typeface="Arial"/>
              </a:rPr>
              <a:t>Sentars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to puede sonarle un poco extraño, pero en ésta área puede ahorrar muchos contratiempos. No tome asiento hasta que no se lo invite. Se han arruinado muchas visitas por un visitante que se sienta en la silla del anfitrión o en una silla con un pata quebrada, de tal manera que esto hizo que  se cayera inmediatamente, o la mente de la dueña de casa estaba tan preocupada de que la silla cediera o no, que se perdió todo el propósito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r>
              <a:rPr b="0" lang="es-ES" sz="1000" spc="-1" strike="noStrike">
                <a:solidFill>
                  <a:srgbClr val="000000"/>
                </a:solidFill>
                <a:latin typeface="Arial"/>
              </a:rPr>
              <a:t>	</a:t>
            </a:r>
            <a:r>
              <a:rPr b="1" lang="es-ES" sz="1000" spc="-1" strike="noStrike">
                <a:solidFill>
                  <a:srgbClr val="000000"/>
                </a:solidFill>
                <a:latin typeface="Arial"/>
              </a:rPr>
              <a:t>El diálog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dor que ejemplifique mejor al Señor, aprenderá cómo tratar con cada individuo. Un comentador sabio dijo que el propósito de una visita pastoral debiera cumplir en realidad con una doble misió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a:t>
            </a:r>
            <a:r>
              <a:rPr b="0" lang="es-ES" sz="1000" spc="-1" strike="noStrike">
                <a:solidFill>
                  <a:srgbClr val="000000"/>
                </a:solidFill>
                <a:latin typeface="Arial"/>
              </a:rPr>
              <a:t>	</a:t>
            </a:r>
            <a:r>
              <a:rPr b="0" lang="es-ES" sz="1000" spc="-1" strike="noStrike">
                <a:solidFill>
                  <a:srgbClr val="000000"/>
                </a:solidFill>
                <a:latin typeface="Arial"/>
              </a:rPr>
              <a:t>Descubrir cualquier necesidad especial que debiera ser suplida por el visitado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   Mostrar el amoroso interés de Dios por sus ovejas al venir y ofrecer cualquier tipo de asistencia que sea necesari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r>
              <a:rPr b="0" lang="es-ES" sz="1000" spc="-1" strike="noStrike">
                <a:solidFill>
                  <a:srgbClr val="000000"/>
                </a:solidFill>
                <a:latin typeface="Arial"/>
              </a:rPr>
              <a:t>	</a:t>
            </a:r>
            <a:r>
              <a:rPr b="1" lang="es-ES" sz="1000" spc="-1" strike="noStrike">
                <a:solidFill>
                  <a:srgbClr val="000000"/>
                </a:solidFill>
                <a:latin typeface="Arial"/>
              </a:rPr>
              <a:t>Duración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chas visitas son demasiado largas. Como promedio, el visitante debiera planificar pasar entre 20 minutos a una hora, dependiendo de la situación y de cuánto desee hablar el dueño de casa. Generalmente, en alrededor de  una hora de diálogo se hará todo el bien posible. Si se encuentran problemas especiales, será necesario planificar una nueva visita. Generalmente la visita a un hogar puede concluirse diciendo “antes de despedirnos, permítame leer una porción de las Escrituras y orar con usted.”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685800" y="891720"/>
            <a:ext cx="5486400" cy="7496280"/>
          </a:xfrm>
          <a:prstGeom prst="rect">
            <a:avLst/>
          </a:prstGeom>
          <a:noFill/>
          <a:ln w="0">
            <a:noFill/>
          </a:ln>
        </p:spPr>
        <p:txBody>
          <a:bodyPr lIns="90000" rIns="90000" tIns="46800" bIns="46800" anchor="t">
            <a:noAutofit/>
          </a:bodyPr>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isitas a personas confinada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stenga a los confinados con sus oracione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Visítelos sistemáticamente y anime a otros a hacerlo también. </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aga una llamada telefónica con anticipación para establecer un horario conveniente de visit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le a la persona  confinada que está orando por ella y recuérdele el amor sostenedor de Dio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mita que se sienta culpable porque no puede ser más un miembro activo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nímelo a desarrollar un ministerio de oración.</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habilidad física de la persona es limitada solo en forma temporal, anímelo con la esperanza anticipada de estar incluido en planes para el futur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ersona confinada puede desear que se ore por ella aunque sea por teléfon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nténgalo informado con las noticias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áigale copias del boletín o materiales que se entreguen en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bine visitas personales con llamadas telefónicas. Una llamada de cinco minutos puede alegrarles el día.</a:t>
            </a:r>
            <a:endParaRPr b="0" lang="en-US" sz="900" spc="-1" strike="noStrike">
              <a:solidFill>
                <a:srgbClr val="000000"/>
              </a:solidFill>
              <a:latin typeface="Arial"/>
            </a:endParaRPr>
          </a:p>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Lineamientos para hacer una visita inici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siguientes lineamientos fueron preparados por Bill Trimyer, Director de Cuidados Pastorales, Brunham Hospital, Champaign, Illinois, US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Vaya con una actitud positiva acerca de usted mismo y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Utilice una aproximación no amenazante. Esté seguro de expresar la razón de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De un propósito y una intención a su visita. Decida con anticipación lo que desea lograr con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 Relacione a la persona con lo que era su vida norm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 Ofrezca halagos apropiados y un apoyo positiv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 Guíe la conversación. Recuerde, usted fue llamado para realizar la visit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 Formule preguntas pero no lo atosigue.</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 Preséntese a sí mismo. No es necesario hacer una presentación  de ventas acerca de su iglesi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 Comparta lo que significa para usted ser un miembro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 Ofrezca cualquier forma de ayuda, particularmente si la gente que está visitando es nueva en el áre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K. No olvide de invitarlos a cualquier evento social programado por la iglesia. Ofrezca de pasarlos a buscar si necesitan transporte.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 Respete el espacio y el tiempo de la gente. En general la gente no está ansiosa de recibir visitas inesperada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 Entrar al hogar de una persona es un privilegio y no un derecho. Proyecte una visita corta. Pida unos 10-15 minutos de su tiempo y </a:t>
            </a:r>
            <a:r>
              <a:rPr b="0" lang="es-ES" sz="900" spc="-1" strike="noStrike">
                <a:solidFill>
                  <a:srgbClr val="000000"/>
                </a:solidFill>
                <a:latin typeface="Arial"/>
              </a:rPr>
              <a:t>	</a:t>
            </a:r>
            <a:r>
              <a:rPr b="0" lang="es-ES" sz="900" spc="-1" strike="noStrike">
                <a:solidFill>
                  <a:srgbClr val="000000"/>
                </a:solidFill>
                <a:latin typeface="Arial"/>
              </a:rPr>
              <a:t>manténganse en esto a menos que se lo anime a permanecer.</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 Sea usted mismo.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 Deje alguna información con la persona que está visitando. No los aburra con información que pueden leer por sí mismos.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 Hágales saber que está a su disposición. Podría ser bueno dejarles su nombre y número de teléfon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 Establezca con cuidado el horario de visita. Evite visitas a la hora de las comidas o muy temprano en la mañan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 Evalúe mentalmente la “atmósfera emocional” en el hogar.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 Escuche las preocupaciones primarias, problemas de familia, soledad, dolor y angustia e inquietudes espirituale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 USi es necesario, haga referencia al pastor si siente que sería necesaria una visita para ayudarlo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05000" y="679320"/>
            <a:ext cx="4248000" cy="3186360"/>
          </a:xfrm>
          <a:prstGeom prst="rect">
            <a:avLst/>
          </a:prstGeom>
          <a:ln w="0">
            <a:noFill/>
          </a:ln>
        </p:spPr>
      </p:sp>
      <p:sp>
        <p:nvSpPr>
          <p:cNvPr id="95" name="PlaceHolder 2"/>
          <p:cNvSpPr>
            <a:spLocks noGrp="1"/>
          </p:cNvSpPr>
          <p:nvPr>
            <p:ph type="body"/>
          </p:nvPr>
        </p:nvSpPr>
        <p:spPr>
          <a:xfrm>
            <a:off x="685800" y="40129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VISITACIÓN: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Visitas a miembro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cuestas eclesiásticas que se han llevado a cabo en Australia y Estados Unidos, presentan un cuadro abrumador de necesidad de visitación a miembros cuyas vidas se encuentran confundidas o en problemas. Necesitamos interesarnos los unos por los otros y detectar pedidos sutiles de ay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4 se llevó a cabo una encuesta a ex miembros de la IASD en Australia. Tenía el propósito de descubrir las causas de los altos niveles de apostasía. En 1993, el promedio de apostasía en Australia y Nueva Zelanda fue del 68.4%. Por cada tres personas que se bautizaron, aproximadamente dos se aparta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45 % de los encuestados tenían cinco o más amigos cercanos en la iglesia mientras eran miembros. El 45 % tenía de dos a cuatro de tales amigos. Uno de cada diez tenían solamente un amigo o ningu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razones principales para dejar la iglesia se presentó así: "No fui tratado como una persona." La enseñanza de la iglesia es que los miembros del cuerpo de Cristo, son parte de una comunidad que se distingue por amor y comunión cristianos. Esto infiere cierta forma de relacionarse con ex miembros y otros miembros de la iglesia que se encuentran en situaciones disfuncionales. Esto se reflejó muchas veces en los comentarios hechos por los encuest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ncuesta también indicó que en menos de un tercio de los casos, un pastor los visitó mientras eran miembros. En aproximadamente otro tercio de los casos, habían tenido una visita o llamada telefónica de otro miembro o una nota del pastor o de otros miembros.  Y en más de un tercio de los casos, no se había establecido ningún contacto con la persona que se había desglosado de la membresía o que se había apar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wyn Salom dice: “Estas cosas hablan por si solas. ¿Cuántos de aquellos en el proceso de salir de la iglesia podrían haber sido recobrados por un ministerio combinado del pastor y de los miembros iniciado tan pronto como se detectó la situación?” También declara “Las iglesias necesitan tener un ministerio de visitación continuo (de parte de ambos, del pastor y de los visitadores laicos) para detectar problemas y ministr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nto mejor sería practicar visitas regulares antes de que los problemas se vuelvan evidentes. Ayudaría a prevenir los problemas como también que haya miembros que se alejen de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Pacientes con cá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es una gran área de discusión pero tan solo tocaremos levemente el tema.  Se consiguen muchos servicios de apoyo para brindar este tipo de ministe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que descubren que tienen cáncer, generalmente se encuentran sacudidas, confundidas, temerosas, frustradas, atemorizadas o desanimadas. Este es un tremendo cuadro de emociones que pueden pres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ciente y la familia que están enfrentando esta situación. Ambos están presentando pérdidas, ambos pueden necesitar hacer cambios significativos en sus estilos de vida y necesitan todo el apoyo para ayudarlos a sobrellevarse unos a los otros y a sí mismos. Aquí es donde pueden ayudar los expertos; ministros, capellanes, consejeros, y otras personas entrenadas para prestar ayuda frente a semejantes trau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mujeres cristianas podemos estar allí para ofrecer asistencia o simplemente para escuchar. No tenga temor de mirar al paciente con cáncer en los ojos, y hablar acerca del cáncer si eso es lo que desea hacer la persona.  Por otro lado, sepa que durante una experiencia prolongada con el cáncer, la persona puede llegar a cansarse de contar la historia una y otra vez cuando alguien le pregunta, “¿Cómo est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paciente está en casa y está recibiendo tratamientos contra el cáncer, puede ser que necesite ayuda concreta. Una corta visita al hogar con un plato de comida puede ser lo más necesario. Puede ser que aprecien recibir flores o un pequeño regalo útil. Alguien que esté dispuesta a pelar papas o a planchar durante media hora podría significar de gran ayuda.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n a menudo, lo que más importa es “estar allí” más bien que “hacer por” cuando se desea ayudar a una persona enferma o con cáncer.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685800" y="520200"/>
            <a:ext cx="5562720" cy="7804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aternidad; nuevos beb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sitación a madres nuevas puede resultar una experiencia hermosa para ambas partes; la madre y la visitadora, si se la hace con delicadeza. Si se le ha asignado la tarea de visitar a pacientes de maternidad, hay unas pocas recomendaciones para recor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adres novicias generalmente están centradas en el bebé en este momento. Toda  la charla debiera centrarse en el bebé si queremos que se nos escuch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Trate de recordar su propia experiencia como madre novicia y con cada nacimiento posterior. ¿Tenía deseos de recibir visitas y qué le caía bien o de qué deseaba hab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lgunas madres se encontrarán muy cansadas, doloridas y desearan pocas visitas y solamente visitas breves. Otras tal vez se sientan solas o estén lejos de la familia y amigas y necesitarán más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adres novicias generalmente expresan su deseo de “hacer bien las cosas”.  Es una responsabilidad profunda y significante la de visitar a una madre nueva para decirle “Bienvenida a la familia de Dios”. Puede ser que estas no sean las palabras apropiadas, pero su visita lo estará diciendo. Casi siempre será apropiado decir, “Dios la bendiga junto con su bebé.” Los padres responden especialmente bien a estas palabras. Un pequeño regalo y una tarjeta será siempre bien acep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enos que la madre haga obvio su deseo de seguir conversando, haga una visita corta y dulce. Si viene de una iglesia que tenga una Escuela Sabática donde la madre pueda traer al bebé, invítela sin ser insistente. Mejor aún sería tener un pequeño boletín informativo del área y de los servicios que se ofrec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Niños y bebés enfer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ésta es un área para profesionales, puede ser que se le pida o se requiera que visite pacientes que estén experimentando estas dificultades. Puede resultar devastador tener un bebé enfermo, especialmente para una madre novicia. Muchas madres se encontrarán en gran angustia por esta causa. Esperaban un bebé sano, y la enfermedad se encontraba totalmente fuera de sus planes. Tendrán que pasar muchas horas en la sala de cuidados intensivos de bebés, cuidando, esperando, y sosteniendo el piecito o la mano del bebé a través de las barras de la cuna del hospital. Las enfermeras cuidan bien del bebé en el aspecto físico, pero podría ser que la madre necesite asistenci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éramos recordar cómo Jesús cuidó, bendijo y sano a los pequeños niños. No discuta asuntos médicos con la madre. Esto es inapropiado y debiera dejárselo para el personal médico. Esté preparada para ofrecer asistencia espiritual. Ofrezca una oración solamente si la madre desea y lo acepta efusiv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 niños en el hospital, generalmente serán los padres los más beneficiados con su visita. Los padres generalmente están muy preocupados cuando sus hijos terminan internados en el hospital. Siempre será apropiado llevar de regalo una revista o libro para niños. Si un padre está solo y preocupado, podría ser un momento oportuno para sentarse ofrecer apoyo. O podría animar al padre que salga a dar una caminata afuera o a comer mientras usted espera al lado de la ca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en todos los encuentros con enfermos, sea prudente con las oraciones. Recuerde; siempre puede orar silenciosamente. Durante la conversación con  el paciente, podrá darse cuenta si la persona desea o no que usted ore. Sea observador, escuche y trate de comprender. Muestre empatía.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miento de niños muertos, abortos, y muertes de niños recién nac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es más común de lo  que nos imaginamos. Uno de cada 115 bebés en nuestra sociedad morirá antes de nacer o en los primeros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ORTO es la pérdida de un bebé que cuenta con menos de 20 semanas desde la concep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CIMIENTO DE UN BEBÉ MUERTO es una pérdida después de las 20 semanas de embara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ERTE DE RECIÉN NACIDO  ES LA MUERTE del bebé durante los primeros 28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lmente un capellán y una trabajadora social habrán visto a la madre o a los padres cuando ocurre esto, en el hospital. Si usted es un familiar o amiga cercana sería bueno que se contacte con los padres. Sería de ayuda que continúe visitándola después que la joven madre regrese al hogar. Aquí es donde usted puede ayudar. Hay algunas pocas cosas para considerar en este escenari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que se encuentra en duelo es diferente y no llorarán su pérdida de la misma manera. Algunos permanecerán silenciosos, otros tendrán lágrimas. En otra etapa se presentará una negación. Si los padres no tienen afiliación religiosa y se le pide que los visite, probablemente los jóvenes padres recordarán su conexión con la iglesia en un momento como este. Buscarán esperanza en usted como representante de la iglesia o de Dios y esperarán recibir consu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a experiencia que acaban de vivir ha sido muy frustrante. La mayoría de los padres han imaginado a su hijo creciendo y desarrollándose perfectamente y tenían planes para sus vidas. Todas las esperanzas y sueños han sido barridos ahora, y les resulta increíble que esto haya sucedido. No esperaban que ese hijo muriera antes que ellos. Es una experiencia du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unas pocas declaraciones de madres cuyos bebés murieron. Esto nos ayudará a comprender mejor este proces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ebés no mueren; muere la gente viej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ie parece comprender cómo me siento por haber perdido a mi bebé. No tengo a nadie con quién compartir mi exper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he para amamantar, sangre, lágrimas; es como si mi cuerpo entero estuviera llo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dre me dijo que su muerte era para bien. ¿Cómo puede ella saber qué era lo mej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aprendí cuán preciosa, tenue, y milagrosa es la vida. Ese fue el legado que me dejó."</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s brazos están tan vacíos y mis pechos tan lle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se aproxima a un padre joven cuyo bebé ha muerto, puede resultar muy estresante al comienzo. Acérquese en silencio y con suavidad, siéntese y escuche la historia que le ofrecen. Si añade sus lágrimas a las de la madre, puede resultar una experiencia muy enriquecedora. Este tema se relaciona con las experiencias emocionales más significativas y profundas de vida y muerte. Se puede sentir a Dios muy de cerca. Tan solo necesitamos alcanzarlo; él está allí para estar con nosotros y revelar su amor cuando se lo invita. Él comprende; porque entregó a su propio hij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 la madre y/o al padre y a la familia a proceder lenta y cuidadosamente con esta fase de sus vidas. Escoja sus palabras con sabiduría y con gracia divina. Mejor es no decir nada y abrazar a los padres añadiendo tal vez, “Dios los acompañe” que decir las palabras equivocadas y enajenarse mutu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ha perdido un ser amado, odiamos que se nos diga, “te vas a sentir mejor; ya va a pasar.” O “pueden tener otro bebé pronto.” Esas palabras nos alteran y enojan. No las creemos. Acompañe al paciente en su angustia y ofrezca el consuelo de Dios y de la amistad.  Algo que el paciente podría apreciar son algunas palabras de consuelo de la Escritura que le hayan resultado de ayuda en su propia experiencia; léalas después de haber recibido su consentimient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685800" y="966600"/>
            <a:ext cx="5486400" cy="7421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6. El paciente moribundo; Cómo facilitar la visi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sitar a un paciente moribundo, puede ser extremadamente agotador y depresivo. Podría ser que tenga un pariente o amigo moribundo. Hay muchas personas que morirán solitarias y es en estas oportunidades cuando puede ser de ayuda un cristiano sensible. Podemos traer calidez, consuelo y compañía a tales person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Cuando una persona enferma se encuentra en la casa, llame con anticipación para averiguar la condición del paciente y la hora más adecuada para la visit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verigüe si el paciente o la persona que lo está cuidando está necesitando alguna cosa que usted pueda tra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Recuerde, el paciente puede encontrarse deprimido y confuso. Su visita y comprensión podrán traerle estabilidad a la person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Preste atención a la hora. Las visitas prolongadas pueden arruinar el propósito que lo llevó a hacer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Enfóquese totalmente en el paciente y préstele completa atención. La comunicación no verbal puede algunas veces significar de tanta ayuda como las palabras. Lea un texto breve de la escritura o cualquier otra lectura. Sea considera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demás de regalar flores, otros regalos pequeños como: jabón, loción, casetes (de música favorita, poesías, lecturas bíblicas) un abrigo suave para la cama, una frazada de lindos colores, una libreta para anotaciones, fotografías, saquitos de un té especial, revistas, una canasta con diferentes regalos pequeñ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 Sea cuidadoso con el tono de voz. No grite. Hable con claridad y no dialogue sobre el paciente cuando se encuentra con otras personas en la habitación. Salga afuera si es necesar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Si una persona parece inconsciente, dígale su nombre, explíquele quién es y por qué ha venido. Sea sensible. Acompáñelo lo mejor que pueda. Puede leer un texto y pronunciar una corta oración. Una persona así posiblemente responderá con un quejido suav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recomendaciones para diálogos con personas moribun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apropiado recuérdele mejores tiemp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tenga temor de tratar el tema de la muerte; permita que el paciente exprese sus sentimientos más profund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ítale llorar y comparta sus sentimientos. Es natural en algunas de las etapas del proceso que atraviesa una persona moribun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ste un oído atento y permita que el paciente hable mientras usted demuestra simpat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segúrele, que sus faltas pasadas han sido perdonadas y olvidad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óquelo; sosténgale  la mano, bese la frente, o abrácelo. Esto es más importante que cualquier remedio conoc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cubra los deseos del paciente de hablar sobre su condición preguntando: “¿Desea hablar acerca de lo que le está suced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predique o aleccione; brinde apoyo, simpatía y am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frézcase para hacer compras, mandados, para escribir o hacer llama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parta noticias importantes; no char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frases de conversación introductorias tales como, “¿Cómo le va?” resultan irritantes para las personas moribundas.  La mayoría de los pacientes responderán a un saludo como, “Hola” o “Estoy contenta de verlo” y con eso es suficie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palabra final: Existe la esperanza. Todavía suceden milagros. No se altere cuando se mencione el futuro. Cuando una persona está enfrentando lo desconocido, no le niegue esperanza. Compártala, bríndesela y confíe en el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ita que la persona sepa cuán gratificante ha sido compartir algo de l a vida con ellos. No permita que la tristeza o incomodidad le robe la obligación y el placer de decir “Graci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lo ha hecho suficientemente a menudo antes,  y si es apropiado, no tenga temor de decir “te a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u visita puede ayudar a la persona moribunda a estar más cómoda y un poquito más feliz, si le ha podido brindar esperanza, considérela una visita realmente exito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CLUS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visitación consiste en beneficiar a la persona visitada. Los visitantes están allí para escuchar, empalizar, y demostrar que valoran a la persona como a un amigo, miembro de la comunidad e hijo de Dios. Ya sea que lo haga por una causa en particular o simplemente con el deseo de alcanzar a otros, la visitación es una tarea importante del cuerpo de Cristo, la iglesia.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62080" y="679320"/>
            <a:ext cx="4533840" cy="3400560"/>
          </a:xfrm>
          <a:prstGeom prst="rect">
            <a:avLst/>
          </a:prstGeom>
          <a:ln w="0">
            <a:noFill/>
          </a:ln>
        </p:spPr>
      </p:sp>
      <p:sp>
        <p:nvSpPr>
          <p:cNvPr id="7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OZCA SU LUGAR EN EL CUERPO DE CRISTO </a:t>
            </a:r>
            <a:r>
              <a:rPr b="0" lang="es-ES" sz="1200" spc="-1" strike="noStrike">
                <a:solidFill>
                  <a:srgbClr val="000000"/>
                </a:solidFill>
                <a:latin typeface="Arial"/>
              </a:rPr>
              <a:t> </a:t>
            </a:r>
            <a:r>
              <a:rPr b="1" lang="es-ES" sz="1200" spc="-1" strike="noStrike">
                <a:solidFill>
                  <a:srgbClr val="000000"/>
                </a:solidFill>
                <a:latin typeface="Arial"/>
              </a:rPr>
              <a:t>(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 única. Ver 1 Corintios 12:27 y 28. La NVI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mos a alguien llegamos a ser agentes de sanidad en cierta forma, y contribuimos a la obra del cuerpo de Crist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62080" y="679320"/>
            <a:ext cx="4533840" cy="3400560"/>
          </a:xfrm>
          <a:prstGeom prst="rect">
            <a:avLst/>
          </a:prstGeom>
          <a:ln w="0">
            <a:noFill/>
          </a:ln>
        </p:spPr>
      </p:sp>
      <p:sp>
        <p:nvSpPr>
          <p:cNvPr id="7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visitar?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personas que nos necesi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s ha pedido que hagamos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nos gust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obrellevar los unos las cargas de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se encuentra gozo y satisfacción personal ayudando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 a otros es beneficioso para nosotros también. Cuando hacemos cosas buenas nos sentimos bien. Existe una conexión positiva entre interesarnos por otros y la inmunidad a las enfermedades. Nuestras personalidades interactúan con las de ellos y creamos algo singular. La gente que se interesa y ayuda a otros, recibe una bendición especial de las visitas. Poseen un vínculo más fuerte con Dios al identificarse con el amor que él manifiesta por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visitación; una responsabilidad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visitación no es exclusivamente una responsabilidad del pastor o de miembros específicamente señalados de la junta para este propósito. Es un ministerio en el cual todos los miembros de la iglesia pueden participar; en particular, los ancianos, los diáconos y aquellos miembros de iglesia que sienten el deseo de ayudar a otros. Involucra la visitación a personas que no son miembros de nuestra iglesia. A familias por las que uno siente una responsabilidad particular, visitar a los que se encuentran confinados en hogares y a los enfermos en sus hogares u hospitales. </a:t>
            </a:r>
            <a:r>
              <a:rPr b="0" i="1" lang="es-ES" sz="1200" spc="-1" strike="noStrike">
                <a:solidFill>
                  <a:srgbClr val="000000"/>
                </a:solidFill>
                <a:latin typeface="Arial"/>
              </a:rPr>
              <a:t>Nunca debiera hacerse por obligación</a:t>
            </a:r>
            <a:r>
              <a:rPr b="0" lang="es-ES" sz="1200" spc="-1" strike="noStrike">
                <a:solidFill>
                  <a:srgbClr val="000000"/>
                </a:solidFill>
                <a:latin typeface="Arial"/>
              </a:rPr>
              <a:t>. El visitador que está dispuesto a ir como un siervo puede sentirse seguro de que será bendecido y de bendición para aquellos que visite. La visitación debiera llegar a ser parte de su estilo de vida. Ocasionalmente como resultado de la visitación la gente se convertirá y se unirá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hacer cualquier visita, el visitador debe prepararse emocionalmente y espiritualmente. Cada visita debe considerarse con oración. El propósito de cualquier visita debiera ser el de beneficiar a la persona que se visitará y para honrar a Dios. Cualquier esfuerzo que se desvíe de esto, no es digno de que se lo haga.  El visitador debiera posponer la visita si no se siente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cosas que debiéramos tener en mente en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mos encontrar un equilibrio. Cuando la visitación comienza a producir demasiado estrés o inconveniencias, puede ser una señal de que estamos sobrepasando límites. Podemos llegar a involucrarnos demasiado, particularmente si sentimos un peso por su salvación y ponemos demasiada intensidad en esta relación para poder superar las di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permitir que la gente se haga a un lado. Jesús siempre daba lugar a que la persona pudiera decir “No gracias, por hoy no.” Siempre le concedía a la persona la libertad de elegir.  Cuando la mujer tocó su manto, se dio vuelta y preguntó: “¿Quién me ha tocado?” Él sabía, pero le dio la oportunidad a la mujer para que continuara. Le entregó su tiempo, pero ella tenía la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79320"/>
            <a:ext cx="4533840" cy="3400560"/>
          </a:xfrm>
          <a:prstGeom prst="rect">
            <a:avLst/>
          </a:prstGeom>
          <a:ln w="0">
            <a:noFill/>
          </a:ln>
        </p:spPr>
      </p:sp>
      <p:sp>
        <p:nvSpPr>
          <p:cNvPr id="8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les son las cualidades de los visitantes o ayudantes?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Corintios 13:5 dice: "Examinaos a vosotros mismos si estáis en la fe” (VRV). ¿Tenemos las cualidades necesarias para ayudar o visitar? Es necesaria una preparación. Necesitamos conocernos a nostras mismas y saber qué cualidades poseem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edro 4:9 y 10 dice: “Hospedaos los unos a los otros sin murmuraciones. Cada uno según el don que ha recibido, ministrando a los otros, como buenos administradores de la multiforme gracia de Dios.” (V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significa que la persona a quien estamos visitando se sentirá cómoda con usted. Una persona que se dedica al ministerio de la visitación necesita ser cálida, y amiga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62080" y="679320"/>
            <a:ext cx="4533840" cy="3400560"/>
          </a:xfrm>
          <a:prstGeom prst="rect">
            <a:avLst/>
          </a:prstGeom>
          <a:ln w="0">
            <a:noFill/>
          </a:ln>
        </p:spPr>
      </p:sp>
      <p:sp>
        <p:nvSpPr>
          <p:cNvPr id="8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ROXÍMESE A LOS AFLIGIDOS CON. . .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Sensibilidad y empatía; </a:t>
            </a:r>
            <a:r>
              <a:rPr b="0" lang="es-ES" sz="1200" spc="-1" strike="noStrike">
                <a:solidFill>
                  <a:srgbClr val="000000"/>
                </a:solidFill>
                <a:latin typeface="Arial"/>
              </a:rPr>
              <a:t>son  esenciales y poderosas.  Carl Rogers nos pregunta, "¿Cómo puede ser posible que cuanto más profundicemos en nosotros mismos como personas particulares y únicas, buscando nuestra identidad individual,  tanto más encontramos que somos completamente humanos?” Al compartir nuestra individualidad encontramos que tenemos mucho en común; esto nos conecta con la mente, el alma, el dolor y la alegría de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tía es la libertad de ver, comprender y experimentar la vida a través de los demás. Para poder lograrlo, cada uno necesita poner a un lado sus puntos de vista y valores  de modo que podamos compenetrarnos en el mundo de los demás sin preju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Jesús y la mujer en el pozo. La saludó con bondad y delicadeza. A él le preocupaba su persona, su vida y su relación con otros. Él hizo una conexión de tal manera que ella deseara permanecer con él y escuchar. No se preocupó por su sistema de creencias en ese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mpatía esta arraigada en nuestro propio conocimiento de pérdidas emocionales. Si alguien no ha experimentado pérdidas entonces su nivel de empatía  no podrá ser nunca tan profundo como el de aquellos que han padecido profundo dolor y pérdida y han podido superarlo bi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ueba de nuestra empatía es la capacidad de relacionarnos con sensibilidad al sufriente y no a la magnitud de su infortunio. No hasta que hayamos alcanzado a la persona donde ella está, entonces podemos brindarles algo 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Flexibilidad; </a:t>
            </a:r>
            <a:r>
              <a:rPr b="0" lang="es-ES" sz="1200" spc="-1" strike="noStrike">
                <a:solidFill>
                  <a:srgbClr val="000000"/>
                </a:solidFill>
                <a:latin typeface="Arial"/>
              </a:rPr>
              <a:t>No debemos imponernos como una autoridad en ningún tema. Necesitamos ir con manos abiertas; necesitamos establecer una relación antes de que podamos presentar cualquiera de nuestras cre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Ser genuinos; </a:t>
            </a:r>
            <a:r>
              <a:rPr b="0" lang="es-ES" sz="1200" spc="-1" strike="noStrike">
                <a:solidFill>
                  <a:srgbClr val="000000"/>
                </a:solidFill>
                <a:latin typeface="Arial"/>
              </a:rPr>
              <a:t>no trate de imitar a nadie. Dios nos hizo especiales a cada uno, disfrútelo. Cada una de nosotras vale más que cualquier cuadro de un millón de dólares. Necesitamos ser reales, honestas y vulnerables. Hay momentos cuando será apropiado compartir alguna de nuestras propias experiencias, pero no permitan que interfieran en la relación. Esto desarrollará la confian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ceptar las diferencias; </a:t>
            </a:r>
            <a:r>
              <a:rPr b="0" lang="es-ES" sz="1200" spc="-1" strike="noStrike">
                <a:solidFill>
                  <a:srgbClr val="000000"/>
                </a:solidFill>
                <a:latin typeface="Arial"/>
              </a:rPr>
              <a:t> Necesitamos aceptar que la gente proviene de diferentes lugares y situaciones.  Nosotras buscamos puntos de contacto para animarlas y hacerlas sentir seguras para que puedan abrirse para encontrar respuestas espirit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4:1 dice: "Reciban al que es débil en la fe. Pero no para entrar en discusiones. (NVI) Memorice este versículo. Recuerde, no todos tendrán la misma fe que nosot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5:7 dice "Por tanto, acéptense mutuamente, así como Cristo los aceptó a ustedes para gloria de Dios" (NVI). Él acepta a todos; no desea que ninguno se pierda. Nosotras necesitamos ir con el mismo espírit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000160" y="679320"/>
            <a:ext cx="2859120" cy="2144880"/>
          </a:xfrm>
          <a:prstGeom prst="rect">
            <a:avLst/>
          </a:prstGeom>
          <a:ln w="0">
            <a:noFill/>
          </a:ln>
        </p:spPr>
      </p:sp>
      <p:sp>
        <p:nvSpPr>
          <p:cNvPr id="85"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E BUENAS HABILIDADES DE COMUNICACIÓN  (RP-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se centra en lo que la persona está diciendo. Escuche cuidadosamente para registrar las palabras que se están utilizando. Escuche para captar los sentimientos detrás de las palabras. Necesitamos captar la experiencia de la otra persona, y entonces reflejarla nuevamente hacia ellos. Necesitamos conseguir que la persona nos responda. Para lograrlo, debemos preguntar: ¿Cuándo, cómo, dónde o qué? Nunca pregunte porqué. Utilice preguntas abiert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énteme acerca 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aba preguntando có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cuá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dón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quedó claro lo que quiso decir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nfundida. Por un lado usted parece decir… pero cuando me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sea cuidadosa y suave al  hablar de las congojas de la gente. Sea sensible cuando una persona dice “No.” En realidad, no desea hablar justo en ese momento, de ese te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leje los sentimientos. Pregúntese: “¿Cómo lo/a hace sentir esto a él o a ella? Diga frases tentativas para ayudar a clarificar y continuar la convers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arece sent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a la sensación de que ...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oy cuenta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entendiendo bien cuando me dic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mprendiendo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queda la impresión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confunda lo que significa escuchar con dar consejo. Podría ser apropiado dar información acerca de cómo conseguir ayuda financiera, información acerca de testamentos, ejercicios, programas de dieta, u otras informaciones específicas, pero no consejo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e los temas que se presentan en la conversación. Esto nos ayudará a  comprender el contexto y el contenido de la situación. A esto se lo llama marco de referencia.  Preste atención a palabr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saldrá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da es un infier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soy de esa clase de personas que no pueden decir que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 escuc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estar si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pens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lo puedo super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gusta molest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á un mensaje que contendrá metas, frustraciones,  emociones, preocupaciones personales, Dios, y su sistema de creencias o sus temo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pronunciar palabras dañinas. Estas palabras dan mensajes equivocados pero generalmente se las utiliza con un buen motivo. Los motivos no son suficientemente buenos. Necesitamos saber que efecto tendrán sobre la otra persona. Mostramos que no estamos escuchando a una persona cuando decimos cosas como las sigu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vali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la respues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clame: empeorará las cos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están mejor ah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éngase ocupad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a actitud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a Elías: él era el evangelista principal y estaba en problemas. Había escapado, y Dios se le presento cuando estaba deprimido y con pensamientos suicidas. Dios le proveyó primero para sus necesidades físicas, y lo dejó dormir. Entonces le preguntó cuál era el problema. Elías habló, entonces se internó aún más en el desierto. Allí se postró y oró otra vez. </a:t>
            </a:r>
            <a:r>
              <a:rPr b="1" lang="es-ES" sz="1200" spc="-1" strike="noStrike">
                <a:solidFill>
                  <a:srgbClr val="000000"/>
                </a:solidFill>
                <a:latin typeface="Arial"/>
              </a:rPr>
              <a:t>Dios lo trató con amabilidad.</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decirle a la persona con anticipación que usted no guardará ciertos secretos.  O si ellos comparten pensamientos depresivos o suicidas, usted puede animarlos a contarlo. Le puede asegurar que estará allí para ayudarlos, pero que si ellos no piden ayuda, usted lo hará por su propio bi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uso de palabras o frases dañinas en el momento equivocado o en la situación equivocada puede causar mucho daño aún  cuando en el momento apropiado pueden ser instructivas. Necesitamos discernir la diferenci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  Vigile la comunicación no verbal. Necesitamos estar relajadas, mantener contacto visual, tener una postura abierta, y rodearnos de una actitud de genuina preocupación e interés por la persona.  Observe a la otra persona para descubrir su estado de ánimo, mirada desconcertada, pequeñas señales, manos apretadas, ojos húmedos, miradas bajas o lejanas, movimientos nerviosos; todo esto nos dará pistas. Aunque hiciéramos todo esto bien, todavía podríamos cometer errores. Reconozcamos que somos humanos. Aprendamos de nuestros errores, corrijámoslos en lo posible y sigamos adel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ESTÉ ALERTA Y PRACTIQUE UN COMPORTAMIENTO ÉTICO (RP-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a:t>
            </a:r>
            <a:r>
              <a:rPr b="1" lang="es-ES" sz="900" spc="-1" strike="noStrike">
                <a:solidFill>
                  <a:srgbClr val="000000"/>
                </a:solidFill>
                <a:latin typeface="Arial"/>
              </a:rPr>
              <a:t>Mantenga la confidencialidad; </a:t>
            </a:r>
            <a:r>
              <a:rPr b="0" lang="es-ES" sz="900" spc="-1" strike="noStrike">
                <a:solidFill>
                  <a:srgbClr val="000000"/>
                </a:solidFill>
                <a:latin typeface="Arial"/>
              </a:rPr>
              <a:t> tenga en mente 2 Timoteo 2:16, "Más evita profanas y vanas palabrerí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ser muy particulares en el hecho de que no compartiremos lo que la gente nos diga a menos que tengamos su permiso. Si no podemos mantener confidencia, entonces estamos en la parte equivocada del cuerpo de Cristo como visitadores. Existen solo unas pocas situaciones en las que es apropiado no guardar sus secretos. Esto incluyen casos de suicidas, o si existe peligro de abuso, asesinato, o peligran las propiedades. Esto no se puede guardar en secreto. Necesitamos saber cuáles son las reglas para emergencias y tener una guía para saber cómo actuar en tales situ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también un sistema de apoyo/supervisión para nosotras mismas. Los ayudantes y visitadores necesitan procesar lo que está sucediendo y saber como tratar con cada situación en particular, además de saber cuáles son las medidas apropiadas que se deben tomar. Aquellas personas que apoyan necesitan estar seguras de guardar su propio consejo.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ntiago 4:11 dice "Hermanos, no hablen mal unos de otros." (NVI) Dios no trata con amabilidad a aquellos que no respetan la privacidad de ot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a:t>
            </a:r>
            <a:r>
              <a:rPr b="1" lang="es-ES" sz="900" spc="-1" strike="noStrike">
                <a:solidFill>
                  <a:srgbClr val="000000"/>
                </a:solidFill>
                <a:latin typeface="Arial"/>
              </a:rPr>
              <a:t>Poder</a:t>
            </a:r>
            <a:r>
              <a:rPr b="0" lang="es-ES" sz="900" spc="-1" strike="noStrike">
                <a:solidFill>
                  <a:srgbClr val="000000"/>
                </a:solidFill>
                <a:latin typeface="Arial"/>
              </a:rPr>
              <a:t>. Cuando visitamos a alguien, nos encontramos en una posición de poder. Debemos ser concientes de esto y no abusar de este potencial de poder. Una persona angustiada, enferma, es vulnerable, y a menudo no es capaz de defenderse a sí misma. Si alguien viene con todas las respuestas, decide cuánto se va a quedar, de qué hablar, etc. Es un mal uso del poder y puede llegar a ser abusiv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ito1:8 dice " . . . amante de lo bueno, sobrio, justo, santo, dueño de sí mism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a sensible en la duración de la vista a personas vulnerables. La única excepción a esto es la gente angustiada. Ellos pueden necesitar un par de horas para poder procesar sus pensamientos y sentimientos.  Haga las visitas en un horario apropiado; no 5 minutos antes de la hora en que comenzará el funeral. Esté atento a las diferencias culturales y respétela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a:t>
            </a:r>
            <a:r>
              <a:rPr b="1" lang="es-ES" sz="900" spc="-1" strike="noStrike">
                <a:solidFill>
                  <a:srgbClr val="000000"/>
                </a:solidFill>
                <a:latin typeface="Arial"/>
              </a:rPr>
              <a:t>Límites</a:t>
            </a:r>
            <a:r>
              <a:rPr b="0" lang="es-ES" sz="900" spc="-1" strike="noStrike">
                <a:solidFill>
                  <a:srgbClr val="000000"/>
                </a:solidFill>
                <a:latin typeface="Arial"/>
              </a:rPr>
              <a:t>. Nos engañamos a nosotros mismos cuando pensamos que sabemos todas las respuestas o que somos expertos. Necesitamos darnos cuenta y reconocer nuestras limitaciones y saber cuándo delegar; ya sea llamando a otra persona o saber donde enviarlos. Mientras los delegamos, podemos esperar y orar que puedan ser ayudados para que puedan superar el proble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menos que usted esté entrenado o sea un profesional calificado, se debieran delegar los casos de: abuso sexual, abuso de niños, serios conflictos maritales, o problemas mentales.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INCIPIOS DE ASISTENCIA ESPIRITUAL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Ayude a la persona a comprender su situación. Imagine que no le queda mucho tiempo para vivir, acaba de divorciarse, acaban de enviar a su hijo a la cárcel, y ha perdido cada centavo invertido para su jubilación. ¿Cómo reaccionaría en una situación semeja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signac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cómo superarl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miser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r confund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Por qué a mí?”</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físicamente enfer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estionar a D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gente que se encuentra en situaciones difíciles, a menudo se siente que necesitan encontrar algo por lo cual seguir adelante. Desafortunadamente, las situaciones difíciles raramente tienen una respuesta fácil. Necesitamos ser sensibles a las necesidades de la persona. Debiéramos ayudarlos a comprender lo que están sintiendo y porqué. Cuando una persona comprende su situación está mejor capacitada para aceptarla y superar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   Existe una diferencia entre una tristeza común o estrés; o una depresión clínica. Algunas veces los cristianos piensan y dicen, “si solamente miráramos a Dios, todo se disiparía.” La depresión clínica no se va de esta manera. Dios nos ha dado conocimiento médico. Nunca pensaríamos que un by-pass del corazón ocurriría en forma natural, pero cuando se trata de nuestras emociones, pensamos que todo lo que necesitamos hacer es hablar a Dios y entonces va a desaparecer. Toda la persona está involucrada y necesita sanarse con los recursos que puedan ayudarla. Dios desea que nos ocupemos de la persona completa; no tan solo de un aspecto de sus vi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  Los principios elementales de la salvación es lo que necesitamos saber, no un curso extenso de teolog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Hechos 16 leemos el relato de Pablo y Silas. El carcelero les preguntó “¿Qué necesito para ser salvo?” La respuesta de Pablo fue “Cree en el Señor Jesucristo y serás salvo.” Entonces en unos pocos minutos, les habló de Dios y fueron bautizados a la mañana siguien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recargue a la gente de información o consejo bíblico. Sea apropiada. No se parezca a la dama que le explicó al paciente moribundo  todo acerca del 666 y la marca de la bestia. Eso no fue apropiado.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importante impartir el mensaje en el momento apropiado;  cree en el Señor Jesucristo. Necesitan que se los trate con amabilidad. Si podemos ayudar a la gente a comprender lo elemental de la salvación, entonces hemos hecho la obra de Dios.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body"/>
          </p:nvPr>
        </p:nvSpPr>
        <p:spPr>
          <a:xfrm>
            <a:off x="685800" y="817560"/>
            <a:ext cx="5486400" cy="7570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TUACIONES APROPIADAS PARA LA VISIT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Una madre con dos niños se confronta repentinamente con la muerte de su esposo. El vacío y la soledad y las demandas que recaen sobre ella, parecen ser insuperables, y le resulta imposible superar los problemas que está enfrentan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Una nueva familia se muda al vecindario. El padre hace un trabajo que demanda que se muden a menudo. Esta es la quinta mudanza en los últimos siete añ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Un esposo y su esposa se han mudado a una nueva ciudad. Viven en un parque para casas rodantes en las cercanías. Han dejado atrás su hogar de los últimos 30 años como también sus familiares y amig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Una joven pareja, que se casó al terminar la escuela secundaria, tiene dos niños. El hombre joven, recientemente perdió su trabajo y se encuentran completamente desamparados. Los padres de la pareja no pueden proveerles ninguna ayuda. Los niños no tienen suficiente ropa o juguetes. El dueño de la propiedad donde viven, los está por ech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Una pareja que se encuentra en sus 50, ha enviado sus hijos lejos a la universidad.  El negocio del esposo ha sido un éxito, necesita invertir poco tiempo en la operación diaria de su negocio. La esposa se enfrenta con las rutinas diarias sin la presencia de los hijo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El padre de una amiga acaba de mudarse para vivir en un hogar de ancianos cerca de su casa. Ella le ha pedido que lo visite cuando pueda. El hombre es un viudo, tiene un comienzo de Alzheimer y se siente muy solit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deas tomadas del Seminario de Mary Lou Davies, , “Mi  rol como persona de apoyo en mi iglesia” EAD, 1989)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USO DE LA BIBLIA Y DE ELENA DE WHITE EN LAS VISIT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Entonces el rey dirá a los que estén a su derecha, venid benditos de mi Padre; heredad el reino preparado para vosotros desde la fundación del mundo. Porque … estuve en la cárcel y vinisteis a mi”  (Mat. 25:34-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La religión pura y sin mácula delante de Dios el Padre es esta: Visitar a los huérfanos y a las viudas en sus tribulaciones, y guardarse sin mancha del mundo” (Sant. 1:2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esús fue nuestro gran ejemplo como verdadero visitador. Su estilo todavía es perfectamente adecuado para que lo sigamos </a:t>
            </a:r>
            <a:r>
              <a:rPr b="0" i="1" lang="es-ES" sz="1000" spc="-1" strike="noStrike">
                <a:solidFill>
                  <a:srgbClr val="000000"/>
                </a:solidFill>
                <a:latin typeface="Arial"/>
              </a:rPr>
              <a:t>Obreros evangélicos</a:t>
            </a:r>
            <a:r>
              <a:rPr b="0" lang="es-ES" sz="1000" spc="-1" strike="noStrike">
                <a:solidFill>
                  <a:srgbClr val="000000"/>
                </a:solidFill>
                <a:latin typeface="Arial"/>
              </a:rPr>
              <a:t>, p. 376 dice, “El Salvador se mezclaba con los hombres como alguien que deseaba su bien.  Les manifestaba simpatía, atendía a sus necesidades, y ganaba su confianza.  Luego los invitaba así: ‘Sígue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Obreros evangélicos,</a:t>
            </a:r>
            <a:r>
              <a:rPr b="0" lang="es-ES" sz="1000" spc="-1" strike="noStrike">
                <a:solidFill>
                  <a:srgbClr val="000000"/>
                </a:solidFill>
                <a:latin typeface="Arial"/>
              </a:rPr>
              <a:t> p. 376, dice, “Es necesario acercarse a la gente por el esfuerzo personal.  Si se dedicase menos tiempo a sermonear, y más al ministerio personal, se verían mayores resultados.  Hay que aliviar a los pobres, cuidar a los enfermos, consolar a los tristes y afligidos por el duelo, instruir a los ignorantes, aconsejar a los inexpertos.  Hemos de llorar con los que lloran, y regocijarnos con los que se regocijan.  Acompañada del poder de la persuasión, del poder de la oración, del poder del amor de Dios, esta obra no podrá quedar sin fru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El evangelismo</a:t>
            </a:r>
            <a:r>
              <a:rPr b="0" lang="es-ES" sz="1000" spc="-1" strike="noStrike">
                <a:solidFill>
                  <a:srgbClr val="000000"/>
                </a:solidFill>
                <a:latin typeface="Arial"/>
              </a:rPr>
              <a:t>, p. 336, dice, “Necesitamos grandemente mujeres consagradas que, como mensajeras de misericordia, visiten a las madres y a los niños en sus hogares, y las ayuden en los deberes cotidianos de la casa, si hay necesidad, antes de comenzar a hablarles con respecto a la verdad para este tiempo.  Encontraréis que por este método tendréis almas como resultado de vuestro ministe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0DE34-1710-4FD6-9ACA-AE3E94C7A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7F510-A266-475F-A79A-5ECBBB1DF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DB5A8-879E-4834-B566-8543458AA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C5EE3-73D5-401B-869E-2C9596C25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F4FA6-5C11-4FBB-A1B7-3A7DA586D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4C361-28EE-4002-BDF6-1749E3AE3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65DA9-21E3-4A79-A47C-1151D7399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EE3A3-3D0C-484D-B31E-01DF727A5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A6C5C-B905-44B8-BD60-4805D0849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511F7-1819-4C11-BB59-D38B9EA9E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67818-7585-49FB-AF84-7C2DC351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B9C3E-3D3E-49EC-AD0D-0B1DA2813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CB49-8ABA-4F52-96CC-F8C76510F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720" y="3352320"/>
            <a:ext cx="4495680" cy="2925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Por </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Joy Butle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Curso de certificación de liderazgo</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Nivel 2</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Ministerios de la Mujer</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3045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Visitación en los hogares</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685800" y="1600200"/>
            <a:ext cx="518148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Cómo entrar</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Sentarse</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diálogo</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Duración de la visita</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personas confinadas</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Lineamientos para hacer una visita inicial</a:t>
            </a:r>
            <a:endParaRPr b="0" lang="en-US" sz="3200" spc="-1" strike="noStrike">
              <a:solidFill>
                <a:srgbClr val="000000"/>
              </a:solidFill>
              <a:latin typeface="Arial"/>
            </a:endParaRPr>
          </a:p>
        </p:txBody>
      </p:sp>
      <p:sp>
        <p:nvSpPr>
          <p:cNvPr id="73" name=""/>
          <p:cNvSpPr/>
          <p:nvPr/>
        </p:nvSpPr>
        <p:spPr>
          <a:xfrm>
            <a:off x="2590920" y="137160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805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Tipos de visitación</a:t>
            </a:r>
            <a:endParaRPr b="0" lang="en-US" sz="4400" spc="-1" strike="noStrike">
              <a:solidFill>
                <a:srgbClr val="ffffff"/>
              </a:solidFill>
              <a:latin typeface="Arial"/>
            </a:endParaRPr>
          </a:p>
        </p:txBody>
      </p:sp>
      <p:sp>
        <p:nvSpPr>
          <p:cNvPr id="75" name="PlaceHolder 2"/>
          <p:cNvSpPr>
            <a:spLocks noGrp="1"/>
          </p:cNvSpPr>
          <p:nvPr>
            <p:ph/>
          </p:nvPr>
        </p:nvSpPr>
        <p:spPr>
          <a:xfrm>
            <a:off x="838080" y="1752480"/>
            <a:ext cx="609624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miembros de iglesia</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Pacientes con cáncer</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Maternidad; nuevos bebé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iños y bebés enferm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acimiento de niños muertos, abortos, y muertes de niños recién nacid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paciente moribun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152280"/>
            <a:ext cx="6553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merigo Md BT"/>
              </a:rPr>
              <a:t>Conozca su lugar en el cuerpo de Cristo</a:t>
            </a:r>
            <a:endParaRPr b="0" lang="en-US" sz="3600" spc="-1" strike="noStrike">
              <a:solidFill>
                <a:srgbClr val="ffffff"/>
              </a:solidFill>
              <a:latin typeface="Arial"/>
            </a:endParaRPr>
          </a:p>
        </p:txBody>
      </p:sp>
      <p:sp>
        <p:nvSpPr>
          <p:cNvPr id="50" name="PlaceHolder 2"/>
          <p:cNvSpPr>
            <a:spLocks noGrp="1"/>
          </p:cNvSpPr>
          <p:nvPr>
            <p:ph/>
          </p:nvPr>
        </p:nvSpPr>
        <p:spPr>
          <a:xfrm>
            <a:off x="533160" y="2057400"/>
            <a:ext cx="7924680" cy="358128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a:t>
            </a:r>
            <a:r>
              <a:rPr b="0" i="1" lang="es-ES" sz="2400" spc="-1" strike="noStrike">
                <a:solidFill>
                  <a:srgbClr val="3333cc"/>
                </a:solidFill>
                <a:latin typeface="Amerigo Md BT"/>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 1 Cor. 12: 27, 28.</a:t>
            </a: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Siendo así, está claro que la iglesia de Cristo es un cuerpo completo y no una parte gigantesca y desproporcionada.</a:t>
            </a:r>
            <a:endParaRPr b="0" lang="en-US" sz="2400" spc="-1" strike="noStrike">
              <a:solidFill>
                <a:srgbClr val="ffffff"/>
              </a:solidFill>
              <a:latin typeface="Arial"/>
            </a:endParaRPr>
          </a:p>
        </p:txBody>
      </p:sp>
      <p:sp>
        <p:nvSpPr>
          <p:cNvPr id="51" name=""/>
          <p:cNvSpPr/>
          <p:nvPr/>
        </p:nvSpPr>
        <p:spPr>
          <a:xfrm>
            <a:off x="2590920" y="1600200"/>
            <a:ext cx="6095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38052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Por qué visitar?</a:t>
            </a:r>
            <a:endParaRPr b="0" lang="en-US" sz="4400" spc="-1" strike="noStrike">
              <a:solidFill>
                <a:srgbClr val="ffffff"/>
              </a:solidFill>
              <a:latin typeface="Arial"/>
            </a:endParaRPr>
          </a:p>
        </p:txBody>
      </p:sp>
      <p:sp>
        <p:nvSpPr>
          <p:cNvPr id="53" name="PlaceHolder 2"/>
          <p:cNvSpPr>
            <a:spLocks noGrp="1"/>
          </p:cNvSpPr>
          <p:nvPr>
            <p:ph/>
          </p:nvPr>
        </p:nvSpPr>
        <p:spPr>
          <a:xfrm>
            <a:off x="990720" y="1828440"/>
            <a:ext cx="5029200" cy="3954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Hay personas que nos necesitan.</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Dios nos ha pedido que hagamos est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nos gusta hacerl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ara sobrellevar los unos las cargas de los otros.</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se encuentra gozo y satisfacción personal ayudando</a:t>
            </a:r>
            <a:endParaRPr b="0" lang="en-US" sz="2800" spc="-1" strike="noStrike">
              <a:solidFill>
                <a:srgbClr val="ffffff"/>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	</a:t>
            </a:r>
            <a:r>
              <a:rPr b="1" lang="es-ES" sz="2800" spc="-1" strike="noStrike">
                <a:solidFill>
                  <a:srgbClr val="3333cc"/>
                </a:solidFill>
                <a:latin typeface="Amerigo Md BT"/>
              </a:rPr>
              <a:t>a otros.</a:t>
            </a:r>
            <a:endParaRPr b="0" lang="en-US" sz="2800" spc="-1" strike="noStrike">
              <a:solidFill>
                <a:srgbClr val="ffffff"/>
              </a:solidFill>
              <a:latin typeface="Arial"/>
            </a:endParaRPr>
          </a:p>
        </p:txBody>
      </p:sp>
      <p:sp>
        <p:nvSpPr>
          <p:cNvPr id="54" name=""/>
          <p:cNvSpPr/>
          <p:nvPr/>
        </p:nvSpPr>
        <p:spPr>
          <a:xfrm>
            <a:off x="2666880" y="144792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456840"/>
            <a:ext cx="6629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merigo Md BT"/>
              </a:rPr>
              <a:t>Cualidades de los visitantes o ayudantes</a:t>
            </a:r>
            <a:endParaRPr b="0" lang="en-US" sz="4000" spc="-1" strike="noStrike">
              <a:solidFill>
                <a:srgbClr val="ffffff"/>
              </a:solidFill>
              <a:latin typeface="Arial"/>
            </a:endParaRPr>
          </a:p>
        </p:txBody>
      </p:sp>
      <p:sp>
        <p:nvSpPr>
          <p:cNvPr id="56" name="PlaceHolder 2"/>
          <p:cNvSpPr>
            <a:spLocks noGrp="1"/>
          </p:cNvSpPr>
          <p:nvPr>
            <p:ph/>
          </p:nvPr>
        </p:nvSpPr>
        <p:spPr>
          <a:xfrm>
            <a:off x="761760" y="2209680"/>
            <a:ext cx="7543800" cy="4267440"/>
          </a:xfrm>
          <a:prstGeom prst="rect">
            <a:avLst/>
          </a:prstGeom>
          <a:noFill/>
          <a:ln w="0">
            <a:noFill/>
          </a:ln>
        </p:spPr>
        <p:txBody>
          <a:bodyPr lIns="90000" rIns="90000" tIns="46800" bIns="46800" anchor="t">
            <a:normAutofit fontScale="93000"/>
          </a:bodyPr>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Examinaos a vosotros mismos si estáis en la fe”</a:t>
            </a:r>
            <a:r>
              <a:rPr b="0" lang="es-ES" sz="3400" spc="-1" strike="noStrike">
                <a:solidFill>
                  <a:srgbClr val="ffffff"/>
                </a:solidFill>
                <a:latin typeface="Amerigo Md BT"/>
              </a:rPr>
              <a:t> </a:t>
            </a:r>
            <a:r>
              <a:rPr b="0" i="1" lang="es-ES" sz="3400" spc="-1" strike="noStrike">
                <a:solidFill>
                  <a:srgbClr val="000000"/>
                </a:solidFill>
                <a:latin typeface="Amerigo Md BT"/>
              </a:rPr>
              <a:t>2 Cor. 13:5 RVR.</a:t>
            </a:r>
            <a:r>
              <a:rPr b="0" lang="es-ES" sz="3400" spc="-1" strike="noStrike">
                <a:solidFill>
                  <a:srgbClr val="ffffff"/>
                </a:solidFill>
                <a:latin typeface="Amerigo Md BT"/>
              </a:rPr>
              <a:t> </a:t>
            </a:r>
            <a:endParaRPr b="0" lang="en-US" sz="3400" spc="-1" strike="noStrike">
              <a:solidFill>
                <a:srgbClr val="ffffff"/>
              </a:solidFill>
              <a:latin typeface="Arial"/>
            </a:endParaRPr>
          </a:p>
          <a:p>
            <a:pPr marL="163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Hospedaos los unos a los otros sin murmuraciones. Cada uno según el don que ha recibido, ministrando a los otros, como buenos administradores de la multiforme gracia de Dios.”</a:t>
            </a:r>
            <a:r>
              <a:rPr b="0" lang="es-ES" sz="3400" spc="-1" strike="noStrike">
                <a:solidFill>
                  <a:srgbClr val="ffffff"/>
                </a:solidFill>
                <a:latin typeface="Amerigo Md BT"/>
              </a:rPr>
              <a:t> </a:t>
            </a:r>
            <a:r>
              <a:rPr b="0" i="1" lang="es-ES" sz="3400" spc="-1" strike="noStrike">
                <a:solidFill>
                  <a:srgbClr val="000000"/>
                </a:solidFill>
                <a:latin typeface="Amerigo Md BT"/>
              </a:rPr>
              <a:t>1 Pedro 4:9, 10 RVR</a:t>
            </a:r>
            <a:endParaRPr b="0" lang="en-US" sz="3400" spc="-1" strike="noStrike">
              <a:solidFill>
                <a:srgbClr val="ffffff"/>
              </a:solidFill>
              <a:latin typeface="Arial"/>
            </a:endParaRPr>
          </a:p>
        </p:txBody>
      </p:sp>
      <p:sp>
        <p:nvSpPr>
          <p:cNvPr id="57" name=""/>
          <p:cNvSpPr/>
          <p:nvPr/>
        </p:nvSpPr>
        <p:spPr>
          <a:xfrm>
            <a:off x="1371600" y="182880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6235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Aproxímese a los afligidos con...</a:t>
            </a:r>
            <a:endParaRPr b="0" lang="en-US" sz="4400" spc="-1" strike="noStrike">
              <a:solidFill>
                <a:srgbClr val="ffffff"/>
              </a:solidFill>
              <a:latin typeface="Arial"/>
            </a:endParaRPr>
          </a:p>
        </p:txBody>
      </p:sp>
      <p:sp>
        <p:nvSpPr>
          <p:cNvPr id="59" name="PlaceHolder 2"/>
          <p:cNvSpPr>
            <a:spLocks noGrp="1"/>
          </p:cNvSpPr>
          <p:nvPr>
            <p:ph/>
          </p:nvPr>
        </p:nvSpPr>
        <p:spPr>
          <a:xfrm>
            <a:off x="609480" y="2514600"/>
            <a:ext cx="5486400" cy="3611520"/>
          </a:xfrm>
          <a:prstGeom prst="rect">
            <a:avLst/>
          </a:prstGeom>
          <a:noFill/>
          <a:ln w="0">
            <a:noFill/>
          </a:ln>
        </p:spPr>
        <p:txBody>
          <a:bodyPr lIns="90000" rIns="90000" tIns="46800" bIns="46800" anchor="t">
            <a:normAutofit fontScale="96000"/>
          </a:bodyPr>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nsibilidad y empatía</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Flexibilidad</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r genuinos</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Aceptar las diferencias</a:t>
            </a:r>
            <a:endParaRPr b="0" lang="en-US" sz="3600" spc="-1" strike="noStrike">
              <a:solidFill>
                <a:srgbClr val="ffffff"/>
              </a:solidFill>
              <a:latin typeface="Arial"/>
            </a:endParaRPr>
          </a:p>
        </p:txBody>
      </p:sp>
      <p:sp>
        <p:nvSpPr>
          <p:cNvPr id="60" name=""/>
          <p:cNvSpPr/>
          <p:nvPr/>
        </p:nvSpPr>
        <p:spPr>
          <a:xfrm>
            <a:off x="1295280" y="2057400"/>
            <a:ext cx="73915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380880"/>
            <a:ext cx="7086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merigo Md BT"/>
              </a:rPr>
              <a:t>Desarrolle buenas cualidades de comunicación</a:t>
            </a:r>
            <a:endParaRPr b="0" lang="en-US" sz="4200" spc="-1" strike="noStrike">
              <a:solidFill>
                <a:srgbClr val="ffffff"/>
              </a:solidFill>
              <a:latin typeface="Arial"/>
            </a:endParaRPr>
          </a:p>
        </p:txBody>
      </p:sp>
      <p:sp>
        <p:nvSpPr>
          <p:cNvPr id="62" name="PlaceHolder 2"/>
          <p:cNvSpPr>
            <a:spLocks noGrp="1"/>
          </p:cNvSpPr>
          <p:nvPr>
            <p:ph/>
          </p:nvPr>
        </p:nvSpPr>
        <p:spPr>
          <a:xfrm>
            <a:off x="609120" y="1752120"/>
            <a:ext cx="5334120" cy="4908600"/>
          </a:xfrm>
          <a:prstGeom prst="rect">
            <a:avLst/>
          </a:prstGeom>
          <a:noFill/>
          <a:ln w="0">
            <a:noFill/>
          </a:ln>
        </p:spPr>
        <p:txBody>
          <a:bodyPr lIns="90000" rIns="90000" tIns="46800" bIns="46800" anchor="t">
            <a:normAutofit fontScale="85000"/>
          </a:bodyPr>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scuchar se centra en lo que la persona está diciendo.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Refleje los sentimientos.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Capte los temas que se presentan en la conversación.</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vite pronunciar palabras dañinas.</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Vigile la comunicación</a:t>
            </a:r>
            <a:endParaRPr b="0" lang="en-US" sz="3400" spc="-1" strike="noStrike">
              <a:solidFill>
                <a:srgbClr val="ffffff"/>
              </a:solidFill>
              <a:latin typeface="Arial"/>
            </a:endParaRPr>
          </a:p>
          <a:p>
            <a:pPr marL="2916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	</a:t>
            </a:r>
            <a:r>
              <a:rPr b="0" lang="es-ES" sz="3400" spc="-1" strike="noStrike">
                <a:solidFill>
                  <a:srgbClr val="3333cc"/>
                </a:solidFill>
                <a:latin typeface="Amerigo Md BT"/>
              </a:rPr>
              <a:t>no verbal.</a:t>
            </a:r>
            <a:endParaRPr b="0" lang="en-US" sz="3400" spc="-1" strike="noStrike">
              <a:solidFill>
                <a:srgbClr val="ffffff"/>
              </a:solidFill>
              <a:latin typeface="Arial"/>
            </a:endParaRPr>
          </a:p>
        </p:txBody>
      </p:sp>
      <p:sp>
        <p:nvSpPr>
          <p:cNvPr id="63" name=""/>
          <p:cNvSpPr/>
          <p:nvPr/>
        </p:nvSpPr>
        <p:spPr>
          <a:xfrm>
            <a:off x="1905120" y="1676520"/>
            <a:ext cx="6705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040" y="152280"/>
            <a:ext cx="7086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Esté alerta y practique un comportamiento ético</a:t>
            </a:r>
            <a:endParaRPr b="0" lang="en-US" sz="4400" spc="-1" strike="noStrike">
              <a:solidFill>
                <a:srgbClr val="ffffff"/>
              </a:solidFill>
              <a:latin typeface="Arial"/>
            </a:endParaRPr>
          </a:p>
        </p:txBody>
      </p:sp>
      <p:sp>
        <p:nvSpPr>
          <p:cNvPr id="65" name="PlaceHolder 2"/>
          <p:cNvSpPr>
            <a:spLocks noGrp="1"/>
          </p:cNvSpPr>
          <p:nvPr>
            <p:ph/>
          </p:nvPr>
        </p:nvSpPr>
        <p:spPr>
          <a:xfrm>
            <a:off x="990720" y="2286000"/>
            <a:ext cx="4572000" cy="3200400"/>
          </a:xfrm>
          <a:prstGeom prst="rect">
            <a:avLst/>
          </a:prstGeom>
          <a:noFill/>
          <a:ln w="0">
            <a:noFill/>
          </a:ln>
        </p:spPr>
        <p:txBody>
          <a:bodyPr lIns="90000" rIns="90000" tIns="46800" bIns="46800" anchor="t">
            <a:normAutofit fontScale="95000"/>
          </a:bodyPr>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Mantenga la confidencialidad</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Poder</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Límites</a:t>
            </a:r>
            <a:endParaRPr b="0" lang="en-US" sz="4000" spc="-1" strike="noStrike">
              <a:solidFill>
                <a:srgbClr val="ffffff"/>
              </a:solidFill>
              <a:latin typeface="Arial"/>
            </a:endParaRPr>
          </a:p>
        </p:txBody>
      </p:sp>
      <p:sp>
        <p:nvSpPr>
          <p:cNvPr id="66" name=""/>
          <p:cNvSpPr/>
          <p:nvPr/>
        </p:nvSpPr>
        <p:spPr>
          <a:xfrm>
            <a:off x="1371600" y="190512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5331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merigo Md BT"/>
              </a:rPr>
              <a:t>Principios de asistencia </a:t>
            </a:r>
            <a:br>
              <a:rPr sz="4400"/>
            </a:br>
            <a:r>
              <a:rPr b="0" lang="es-ES" sz="4400" spc="-1" strike="noStrike">
                <a:solidFill>
                  <a:srgbClr val="000000"/>
                </a:solidFill>
                <a:latin typeface="Amerigo Md BT"/>
              </a:rPr>
              <a:t>espiritual</a:t>
            </a:r>
            <a:endParaRPr b="0" lang="en-US" sz="4400" spc="-1" strike="noStrike">
              <a:solidFill>
                <a:srgbClr val="ffffff"/>
              </a:solidFill>
              <a:latin typeface="Arial"/>
            </a:endParaRPr>
          </a:p>
        </p:txBody>
      </p:sp>
      <p:sp>
        <p:nvSpPr>
          <p:cNvPr id="68" name="PlaceHolder 2"/>
          <p:cNvSpPr>
            <a:spLocks noGrp="1"/>
          </p:cNvSpPr>
          <p:nvPr>
            <p:ph/>
          </p:nvPr>
        </p:nvSpPr>
        <p:spPr>
          <a:xfrm>
            <a:off x="1066320" y="1980720"/>
            <a:ext cx="7086600" cy="4343400"/>
          </a:xfrm>
          <a:prstGeom prst="rect">
            <a:avLst/>
          </a:prstGeom>
          <a:noFill/>
          <a:ln w="0">
            <a:noFill/>
          </a:ln>
        </p:spPr>
        <p:txBody>
          <a:bodyPr lIns="90000" rIns="90000" tIns="46800" bIns="46800" anchor="t">
            <a:normAutofit fontScale="93000"/>
          </a:bodyPr>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Ayude a la persona a comprender su situac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 diferencia entre tristeza y depres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s bases de la salvación – el entrenamiento teológico no es un prerrequisito.</a:t>
            </a:r>
            <a:endParaRPr b="0" lang="en-US" sz="3600" spc="-1" strike="noStrike">
              <a:solidFill>
                <a:srgbClr val="ffffff"/>
              </a:solidFill>
              <a:latin typeface="Arial"/>
            </a:endParaRPr>
          </a:p>
        </p:txBody>
      </p:sp>
      <p:sp>
        <p:nvSpPr>
          <p:cNvPr id="69" name=""/>
          <p:cNvSpPr/>
          <p:nvPr/>
        </p:nvSpPr>
        <p:spPr>
          <a:xfrm>
            <a:off x="2133720" y="1828800"/>
            <a:ext cx="6476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4:27:05Z</dcterms:created>
  <dc:creator>Gilda Almeida</dc:creator>
  <dc:description/>
  <dc:language>en-US</dc:language>
  <cp:lastModifiedBy>Nelida Leguizamon</cp:lastModifiedBy>
  <dcterms:modified xsi:type="dcterms:W3CDTF">2006-05-31T18:29:58Z</dcterms:modified>
  <cp:revision>21</cp:revision>
  <dc:subject/>
  <dc:title>The Art of Personal Visitation</dc:title>
</cp:coreProperties>
</file>